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5E95-43F6-448B-B598-F7125D0F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8C50-DA2D-441B-8DC9-ED6C8164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C19B6-1C79-4CC1-BE15-8E4FC425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72675-47E4-47E0-A808-428F5321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0C1D4-2982-4672-B2F1-F41BAB27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B6B96-8EB0-4077-B5B2-51FD6B21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A377E-856C-4A6E-995B-54C713D4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3B300-D0C7-4100-9015-D2C6BB14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03882-4A2F-4834-A84E-B7AC5831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3CFAE-AC9D-4407-B315-54EB52EF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5377B-D5E8-40D4-8034-5A62B4B5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E6BB1-9D74-43A1-9EA9-97D03DBB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0EB3-8F5B-4C0F-ACCF-A3AB5065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9922B-4E3F-4134-97E4-47303185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80570-C245-47A7-AAD6-8A1D0174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C04E1-3753-4C83-9157-C6F7B98C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DF341-3ADF-4FF6-AB51-8DD1130E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C31FE-129A-4F6C-A7DA-151FA7F7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CD0E2-1251-4B6C-A667-AEC4A089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CA3EC-A1D6-43BB-8676-BB88EEE8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CC7B6-5645-4B13-9F39-36971AA0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A8734-E136-469E-A020-3A64F9F8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760A5-D311-4B2B-BAA7-61FC23B5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788-9953-4A1D-B693-ECFE39B2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46D74-0E08-43FE-B9C7-48A5EBBA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1445F-E25E-45B0-9546-C0639761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D7B0A-1438-4BCC-AC45-CBC875B3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A5B79-A3FB-418C-876E-06D7ADFE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4C0B1-62DC-4F01-97A8-77028647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25224-2E5E-4BB5-ABA0-C1E3213B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060B1-1D47-469D-9E54-9DF7C2C4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2AB79-663C-4AED-8584-78A2E055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326DF-9664-42B0-AD23-75FCFB9F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163E7-9D96-4AE9-9555-EB16301A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8B14-FABA-42D5-806C-1EDDE658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199AF-C16C-4ABC-A00A-CB11CD1D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13985-3B68-416E-A386-A27B6E31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2A2A1-6A33-48CA-880F-252751DD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F3C91-9399-4F5D-9E14-464E02F2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73084-23FB-4DDA-996F-9698C0D5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68B44-3476-43A2-A0E0-6082B2B9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4CC68-EF6B-4151-84E3-42745C33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2A71D-C2AD-413F-BEE1-9A02EAB2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464C4-6944-4EF2-BFBE-4F64E60D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89843-B266-41EE-9444-6F784CC6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9F0A-075F-46FD-856B-5A81ED95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EE090-F848-4132-B75B-341E4D8B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22895-793A-4733-8DEC-440AE44D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32B49-8132-4953-AA76-9B064F46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534B8-CCAC-4946-86BA-68CE8E7D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447ED-D42D-4EDF-B2B1-67E496B8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FF8CF4-D98B-44FA-A8A2-90FC30F1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0806A-7FFA-4261-B648-53C950AE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DA8605-5274-4BEA-9B18-E3E1032F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4117A1-25F7-42B2-B11D-7A114C94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47EF9-B0D0-412A-8E5F-239FFFC0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DD57-EE23-4340-A843-4EB11CEA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F3B07B-914A-479E-B348-8AEC6C0A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F9B66-10E5-44A6-B1B6-67633196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17B02-F1B2-4199-BC69-6FD9E744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95A91-1C42-4C0B-98C8-4F83496F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60492-FBC7-4653-BF9F-573F8AF7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65E50-72A4-4771-8003-FB99C340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3A290-21B7-436A-9BA9-13942C4C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40CEF2-C853-4D36-A23A-2222353E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5B5CC3-0B3E-46B9-9868-CBD7DAB4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71E991-7578-44D7-9C78-7AED6F89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8854-E609-46CC-874D-FD6748BB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CDC7B5-D479-466F-9DEB-9EA5EC4F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4FA665-D196-4E07-AF22-CD54029B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2A348A-2573-4B9A-A7B3-94B9990F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B6151F-DE49-4EA0-B8A0-9238BA71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834AAC-497F-4DC6-9A46-66BC1D8F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4FCAAC-BC1F-469B-8A7A-687A91E1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38731C-3DBB-4E23-BDC6-12E58CEA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2697BA-51E3-4164-BBF9-C1ECC1E4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44A73B-BCA5-4438-9953-D7B672EE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DD728B-FEE1-4AA4-8E6D-BC1D1EB9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B794-50F7-485E-9068-677FDBCB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25922E-48FC-42D7-92DA-EEC8E6D5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D99A03-D95E-463C-9836-6D7E7A83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EB0D83-F0AF-4C1F-8D42-C235A944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916608-58A4-4F86-B6F4-4CC9506A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8BD229-1608-4F14-B6F2-E6660C47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40A26B-1C4A-4AD8-B694-056E64AB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EF2069-78FE-443A-A753-323E676F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970A2E-2EFE-4D2D-8F49-E3530138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793FB0-377E-47DF-871B-54DBDA2E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DC3362-AD7F-415E-82D7-6FDC93F4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87D6-6DC9-4F6D-BCAC-44800795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C221C-1FD2-4C59-A644-43DA05CB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05FD67-5330-46CE-B955-4A2FEC5A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C95A23-5FD1-4D8C-B6F7-65F5F3FA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65C28B-71F3-44E4-A5D2-962382D3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3025B4-7A95-4D3B-80A6-23785FF6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46D212-4622-475F-A0B5-EEA35EBA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9AB12E-CE23-4578-A609-E211AFAA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465C27-9C84-40BC-A5DB-CF66912F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C3BE3A-9067-4AFE-B392-FE7F5751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8F6E64-57A9-4CFC-8A46-17037280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052B-1AE0-41A7-8185-90C6056F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BC7C90-C007-4F2C-97C1-C51E0673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10E71F-5BD1-4510-A399-6D250AC2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A4CC67-E3B1-4A3E-92D3-39AE4279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E51E33-A6BA-42B0-9741-5892D8E2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636FAC-E584-4397-A6D8-78C7AB90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8B4E4E-BA9F-4B25-A912-40B73B9F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F324CD-8744-48AA-860A-E41BAF7A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7E9127-F924-40ED-9C53-42F73D1F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DD679F-FC4B-4D2D-B447-91720559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DC445D-9EE4-4154-B51B-94E27EA3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A45A-1358-4993-B65C-269F8278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AD66-EEAE-423B-8CC9-14B4F4D8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43C1C7-6CE0-46C6-A022-3A511E47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8097DD-7B33-41C9-965F-9ADA5749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377992-FD87-48F3-91F3-17FB6955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2D7EDF-17EA-4265-A088-1DFD1A50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C5F243-BF06-43C3-8856-A8FA1623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047797-357F-4304-BDBE-F117C11A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34DE48-5175-4CDA-91C7-C47CF8AA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E12B9F-8913-401C-9351-9ED52C03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9B1EA6-BB29-4A5D-8572-51636DED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AED87D-874D-4BDD-9318-C61BE486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B74A-414A-4047-91D3-3DD61F25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146531-C9F5-432E-BF96-2672BB1B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F67176-67B0-4E30-9524-929F23BB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605C82-B186-4416-8C4F-CFF9C716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138AE5-02B2-40A2-9B60-4BAD3D79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BA219A-12AC-4EEB-AC84-A6B9496F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FCD0D0-1557-475E-853E-F30D436E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D34878-773D-4E60-88F3-AC2BDBC5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E65463-6A6A-4A04-A1B2-9038A4BD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5755A0-6E33-4353-8BB6-8D8C4CE2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C31EEC-E046-4BF3-B763-71BE23DE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23C8-E203-4C00-8BC8-68651CA8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2C9615-98BA-4E70-B489-606D9E5E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87E239-0AA9-4328-9EE9-E5DFFBC5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CE3298-758E-4B64-AF57-F7A8A0CC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A2A5B3-5107-44C2-9A2A-66A049E7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1791CF-3354-44DF-9E3B-1A24ADB8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447AED-726C-4600-B6FA-781AEEC0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074129-FD32-457F-BC55-18D21B9B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EA9B28-003E-43E3-898B-2CE3A426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65EA3B-0D1E-4079-8048-761E03CA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9F5543-D776-4D22-BB74-828FC675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6CE1-C4E0-434C-9BD0-1023CEEF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4FAB86-434F-44BE-BAEB-A7E23CA4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F3553C-5925-40C1-B87B-24F84050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6B4BFF-AA47-42D2-98B2-4DCD7EA8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FC84DD-7375-4BE0-A8E1-912EA82C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384744-6151-497D-85FE-A9DDFB57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7A5FD8-7626-4BE5-BFC2-2508BDE0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9769AA-A257-4BBD-A5C4-CFD185F4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5C4D22-EC6A-4FF5-A64A-160E4C30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882CD3-F0ED-4673-A42E-67914B2A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13B804-2740-4BF1-B2A8-BFD5BB7D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4172-0B1A-47F9-A4DD-D21C1FE8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1BC839-1839-43ED-8898-81867B0A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5A8078-B490-4922-90AB-3EF21125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818657-1F69-42FB-A6E6-E09B1F44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E9DD8E-9BBD-4975-827D-E5878BE8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792BC4-2AC9-4FCE-9CB2-449A0753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2F9BDC-E3BB-4FE8-B416-1BA3BB77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C56EB1-2A60-42EC-86DE-6BDE8484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CBD08B-39F0-4D6D-9330-9E28CF96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FE0684-F139-4B76-A726-91CE599F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9A5113-A38A-45D9-9C32-289905A0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63869-0D1C-46E3-9D22-E7CBFF61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BFCD0F-441E-415E-AD8B-404592C2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1A8DB0-0949-4C77-8405-586D7805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D6CF06-DE76-414C-87B2-D894D24C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E1D82-7774-473D-BE19-2E8890C2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F9584-F260-487D-8595-7948A1CC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E4911-2FD6-4887-949E-055DF022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0E66D-7CA9-4B7E-A022-69551FC3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498C-9196-4049-9396-399494B8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1A636-A357-484E-9483-32DF608B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9003B-35FB-4708-BE36-FAB25253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7F857-4902-4D14-9BCA-4F182175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20193-3534-471C-985F-576FC00E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065C0-1496-4089-8F8F-9AAAFAA9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F4698-0A6F-45ED-B9B5-D8184B09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79613-EE27-4774-B878-125D3166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2E810-682B-4372-B09D-D259ECCE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D1159-5295-462A-9F7B-5C6A7F7E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3122B-1ABA-4E6D-9CFC-1C1457AF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F5A-3DBB-47CD-A218-7B6DFC98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600BB-0807-45B9-AAF3-837144EE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BC22C-C969-4656-B908-2063081E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5E4CE-D4FE-4F71-83C1-2F56BEF5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B273B-FABB-43EF-995D-1377C827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B155E-1B02-43F7-BF3F-67C2E3FD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06795-F635-4768-9424-71ABD85F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EADAF-94D5-4A01-8EBE-38B76661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346CB-207F-434E-AEBB-9C955792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958C9-3A01-445B-B1E7-C95878F7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8CC92-55BC-4D4F-86A7-4D8D7836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826A-8A7F-4FBF-A2A4-A02AF3ED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D8F29-CE84-423A-8364-97F7C6A2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1BEAD-6781-477F-B47C-DF595473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BA629-3433-44F2-BED4-3EB7141D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28F0B-1346-49AD-BF2C-383C8067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C78AC-5A45-4198-8919-FB80BF6E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12434-B7D0-4A84-9B7B-7A96E3FD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FCD43-A549-4886-B14C-E8A38E71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2F420-41C1-4819-8327-77901810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9466E-5EA3-430A-8448-F412182A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386B7-3666-4F51-9A8E-CA5DFD93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1356-3D4D-47DD-BE21-B1C76525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26A34-5E79-46E4-A738-ED2568C6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069AF-D9A6-4398-B7B7-48AD1984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CF2AE-4EAA-46B1-8706-2726AAFB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D3ECC-022C-4D07-A2A6-DABCB30B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0A2CE-0D69-41CC-9AB4-57F1BC72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40D06-0A09-4F11-9CF1-7220A543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51286-8145-4614-B210-3702ACA1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962A5-F99B-49A7-AD80-06ECC5FC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EF790-B249-4398-9F11-CAF74FD3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2E422-DEE4-4C75-95DC-2ADAB5D0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510-FAC9-4F1A-8E93-D4C38159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57B0D-D69E-4AFC-9F0B-754E277D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0160E-1E9E-4C62-98DE-BD5DA0D9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515CB-24B5-4C6E-954A-1F043B49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98DF1-84CC-4866-997C-A07B11C0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694F6-C8B2-40BD-BD9C-71DF30A3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1EBA4-D48C-473A-8360-B61A2671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0E295-8C1F-424F-B134-0EE85BA5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4691C-7673-4B48-834A-57465AD5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2F78D-009F-44BE-B26F-3B46EA66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06EEB-66D1-4058-8A9D-F56EB90F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D57F-E8E2-4B75-B49E-70CED41F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36DE5-960C-470E-8470-49689ECC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6187E-0E64-4E5A-9954-4DDCADDC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DEA6C-0806-41C9-9FDF-908903F5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C69F9-E941-4646-8C28-B3E6781F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DC228-DB16-4CBE-89FD-0C02D697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61F73-8C66-4F6B-9D55-55C01D53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77648-BC26-4EA1-9E44-888D7046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21297-4766-42BE-8B14-41A49F4F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C2E0C-4985-42A1-8F70-3A8855E2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EB8FE-85DC-417A-8B8D-581852CD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AC6-1996-4D12-997F-EEAD9251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26590-C66D-4979-A4F4-1D9E8499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46367-913E-49F6-AE21-5E67FB05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81B25-BE3E-4BB0-BFF7-707BF835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5ECD8-8A55-402B-9081-0A3FD054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A7220-2B20-4B87-A0BE-9D36C1E4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838A4-81A4-41E7-946E-1C3A8726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1F5A0-18CE-40E6-A17A-E98C5704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C6C82-D36E-4454-8814-3C25A13F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8E1D2-11B4-41DE-B42A-A98582EA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3ADBD-D5E7-4942-A756-F9659686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0ACB-3640-4B8A-AF79-EBDE8E146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E24C-EB44-413B-9942-E1BFA9C23B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CED1-2A60-4FC6-9077-2D96F6A27A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DD2C-ACE8-4B26-8393-135E617A97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C972-144D-4AFD-B0D2-694D9066F6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AB03-4944-4660-824E-8769E57609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0994-8EEB-4F4D-882C-1A2DDA48B4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1723-BB04-4256-B3E0-F22310FE2F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9D08-00F3-4B97-8218-F2AB4674C2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E665-6A92-4BEC-911F-F976EA06F8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85EE-FE1E-42DB-A87D-E6A5526068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1365-3862-4627-9954-4F79DD693C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0C6F-81CE-4FB0-86D1-AB66CB4C73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483D-3185-4148-BB98-28FEA6A36A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0723-FAED-4CBD-95B9-1F2180EFCA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4D98-0AAC-4A0F-973A-FA0E8EF005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C95B-FB2F-4C19-ADA9-5900292CDE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BE73-84E9-4EC7-9BC8-7E79976D3F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F12A-D7C4-4EA1-83E5-1723969602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D4FA-6A7D-48AE-8BE5-9A03925247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271A-6F1A-4FCB-B41E-455830C747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3A62-CCC3-46B0-B0EB-EC22CFCCE0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E2F4-12FB-4660-8AD3-D2B8F41316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C096-3828-44BC-8374-EC28294FF3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8C2D-A7E5-4B0B-A14A-BB226C5731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A172-07DD-4930-84DA-498E9617B0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A557-DBFA-4FAB-9407-2EA8801623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7687-DE75-461A-8FC5-2192C7EA7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390C-D10D-419D-ADD7-C0060F8388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8B91-4887-4C9C-AF2C-2D4518E95F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899A-77D6-4754-90A1-5465C2823D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05E0-A617-4567-AF52-4479292472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EC3B-5A2B-406E-8BD5-D2361DA3C5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152D-A797-4E42-9B33-65ADB10AFC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3D71-0FE1-4BE7-B653-7B8623DFBF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073D-0D44-46F7-A2D9-81CFD6E724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4CA9-0129-45E8-863C-0D8379A17E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73AB-956D-4B9C-84EF-90188B3BD7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E085-D85D-4B01-A715-CD8CE26008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64C5-0949-4A21-8FD3-5F650E3777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062000" y="2525760"/>
            <a:ext cx="7020000" cy="61920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3166920" y="3630600"/>
            <a:ext cx="28101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029" name="组合 4104"/>
          <p:cNvGrpSpPr/>
          <p:nvPr/>
        </p:nvGrpSpPr>
        <p:grpSpPr>
          <a:xfrm>
            <a:off x="147600" y="1771560"/>
            <a:ext cx="8847000" cy="3286080"/>
            <a:chOff x="147600" y="1771560"/>
            <a:chExt cx="8847000" cy="3286080"/>
          </a:xfrm>
        </p:grpSpPr>
        <p:pic>
          <p:nvPicPr>
            <p:cNvPr id="1030" name="图片 1" descr=""/>
            <p:cNvPicPr/>
            <p:nvPr/>
          </p:nvPicPr>
          <p:blipFill>
            <a:blip r:embed="rId2"/>
            <a:stretch/>
          </p:blipFill>
          <p:spPr>
            <a:xfrm>
              <a:off x="147600" y="1771560"/>
              <a:ext cx="88470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Picture 1" descr=""/>
            <p:cNvPicPr/>
            <p:nvPr/>
          </p:nvPicPr>
          <p:blipFill>
            <a:blip r:embed="rId3"/>
            <a:stretch/>
          </p:blipFill>
          <p:spPr>
            <a:xfrm>
              <a:off x="1403280" y="3112920"/>
              <a:ext cx="720108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Picture 1" descr=""/>
            <p:cNvPicPr/>
            <p:nvPr/>
          </p:nvPicPr>
          <p:blipFill>
            <a:blip r:embed="rId4"/>
            <a:stretch/>
          </p:blipFill>
          <p:spPr>
            <a:xfrm>
              <a:off x="2050920" y="4076640"/>
              <a:ext cx="1081080" cy="3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Picture 1" descr=""/>
            <p:cNvPicPr/>
            <p:nvPr/>
          </p:nvPicPr>
          <p:blipFill>
            <a:blip r:embed="rId5"/>
            <a:stretch/>
          </p:blipFill>
          <p:spPr>
            <a:xfrm>
              <a:off x="5407200" y="4149720"/>
              <a:ext cx="1081080" cy="3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1" descr=""/>
            <p:cNvPicPr/>
            <p:nvPr/>
          </p:nvPicPr>
          <p:blipFill>
            <a:blip r:embed="rId6"/>
            <a:stretch/>
          </p:blipFill>
          <p:spPr>
            <a:xfrm>
              <a:off x="7020000" y="4033800"/>
              <a:ext cx="108108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直接连接符 4105"/>
          <p:cNvSpPr/>
          <p:nvPr/>
        </p:nvSpPr>
        <p:spPr>
          <a:xfrm>
            <a:off x="1720800" y="3097080"/>
            <a:ext cx="1555920" cy="1224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直接连接符 4113"/>
          <p:cNvSpPr/>
          <p:nvPr/>
        </p:nvSpPr>
        <p:spPr>
          <a:xfrm flipH="1">
            <a:off x="1834920" y="3068640"/>
            <a:ext cx="1555560" cy="1297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直接连接符 4114"/>
          <p:cNvSpPr/>
          <p:nvPr/>
        </p:nvSpPr>
        <p:spPr>
          <a:xfrm>
            <a:off x="5091120" y="3097080"/>
            <a:ext cx="1555920" cy="1224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直接连接符 4115"/>
          <p:cNvSpPr/>
          <p:nvPr/>
        </p:nvSpPr>
        <p:spPr>
          <a:xfrm>
            <a:off x="6877080" y="3111480"/>
            <a:ext cx="1555560" cy="1224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直接连接符 4116"/>
          <p:cNvSpPr/>
          <p:nvPr/>
        </p:nvSpPr>
        <p:spPr>
          <a:xfrm flipH="1">
            <a:off x="5219640" y="3070080"/>
            <a:ext cx="3184560" cy="1295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528480" y="1652760"/>
            <a:ext cx="8085240" cy="3552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4317840" y="2982960"/>
            <a:ext cx="254160" cy="339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4716360" y="2968560"/>
            <a:ext cx="254160" cy="339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5062680" y="3313080"/>
            <a:ext cx="253800" cy="339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5076720" y="3730680"/>
            <a:ext cx="254160" cy="339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4702320" y="4062240"/>
            <a:ext cx="253800" cy="339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7"/>
          <a:stretch/>
        </p:blipFill>
        <p:spPr>
          <a:xfrm>
            <a:off x="4313160" y="4076640"/>
            <a:ext cx="254160" cy="339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8"/>
          <a:stretch/>
        </p:blipFill>
        <p:spPr>
          <a:xfrm>
            <a:off x="3967200" y="3745080"/>
            <a:ext cx="253800" cy="339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9"/>
          <a:stretch/>
        </p:blipFill>
        <p:spPr>
          <a:xfrm>
            <a:off x="3952800" y="3298680"/>
            <a:ext cx="254160" cy="3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90360" y="1390680"/>
            <a:ext cx="8961480" cy="40766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1173240" y="456732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图片 1" descr=""/>
          <p:cNvPicPr/>
          <p:nvPr/>
        </p:nvPicPr>
        <p:blipFill>
          <a:blip r:embed="rId1"/>
          <a:stretch/>
        </p:blipFill>
        <p:spPr>
          <a:xfrm>
            <a:off x="1219320" y="2300400"/>
            <a:ext cx="6705360" cy="22572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1619280" y="24066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1619280" y="350028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图片 1" descr=""/>
          <p:cNvPicPr/>
          <p:nvPr/>
        </p:nvPicPr>
        <p:blipFill>
          <a:blip r:embed="rId1"/>
          <a:stretch/>
        </p:blipFill>
        <p:spPr>
          <a:xfrm>
            <a:off x="38160" y="1457280"/>
            <a:ext cx="9067680" cy="39434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1042920" y="20890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4"/>
          <a:stretch/>
        </p:blipFill>
        <p:spPr>
          <a:xfrm>
            <a:off x="1087560" y="325584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8:25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